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64A-DED1-440E-95C0-59E35A50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FE4-A669-4548-AEDD-81C83C7A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B9F-BE26-4181-9178-256C0828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296-97ED-4F72-9A92-711EF4E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976-5550-49B1-BC2C-0C2AA34F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DFD-5043-4AB0-9E06-9C3B003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141-957B-4852-AF9A-53783FC8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2ED-8690-44F2-8C24-81165F8E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F0A-427A-4AF6-B5FC-735A128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12E-7F60-4C8B-BB7B-B5DDCE2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51F-F4EA-4A59-8EC6-DE0DDAE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357-EE0B-4341-AA3F-EF186CE7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168B9-C945-4054-898B-ADCA164C322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1B102-296E-46DD-9EBF-B15DBB7937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erican Li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word or group of words that expresses time while showing an action, a condition, or the fact that something ex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 make statements, ask questions, or deliver comman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ry complete sentence must have at least one ver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ion and Linking Verb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ion: is a verb that tells what action someone or something is perform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be visible or ment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Tim baked an apple pi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I thought of you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king: is a verb that connects its subject with a noun, pronoun, or adjective that identifies or describes the subj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That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 famous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ockey play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ce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urfa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eem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mooth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forms of b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verb be is the most common linking verb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-most often, the forms of be that function as linking verbs express the condition of the subject, but they may also express existenc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x: The skater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is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on the ice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e chart on page 375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ther linking verbs –see chart on page 375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ome other linking verbs may also be action verbs-depends on the context of the sentence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Linking: The air felt co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ction: The skiers felt a chilly wind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s: Either Transitive and Intransitiv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itive: directs action toward someone or something named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ord toward which a transitive word directs its action is called the object of the ver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rmine the object by asking whom or what after the ver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ansitive: does not direct attention toward anyone or anything named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king verbs do not express action, so they are always intransitiv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iti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 drove the car around the bloc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climbed the mountain that wint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dangerous storm stopped the trip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ansiti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 drove around the bloc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climbed very slowl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rip was stopped when the storm cam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 Phr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verb that has more than one word is a verb phr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a main verb and one or more helping verb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ing verbs are often called auxiliary verb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many as 3 helping verbs may precede the main verb in a verb phr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 Phras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hould have take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orse-and-carriage ride through the s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houl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ak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orse-and-carriage ride through the snow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will be go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he are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will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on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e go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he aren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3:39:25Z</dcterms:created>
  <dc:creator>ndadmin</dc:creator>
  <dc:description/>
  <dc:language>en-US</dc:language>
  <cp:lastModifiedBy>ndadmin</cp:lastModifiedBy>
  <cp:lastPrinted>2008-11-04T18:55:47Z</cp:lastPrinted>
  <dcterms:modified xsi:type="dcterms:W3CDTF">2008-11-04T19:15:26Z</dcterms:modified>
  <cp:revision>4</cp:revision>
  <dc:subject/>
  <dc:title>Verbs</dc:title>
</cp:coreProperties>
</file>